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F791-203D-484F-8327-0CDBCE50F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F991-10E8-4A76-BDA2-16DD69A4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1BF7-86AE-459B-9E47-D2027608C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97CA-FCDE-4655-A485-2BDEF629E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60D9-FEB7-45B5-9273-E19DABF3F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026B-53BC-411D-BE22-54D2A249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90AC-01F9-4235-A66C-1A4586B8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564C3-596B-439F-8745-93272B22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41CDF-F015-4ECA-9E88-D446518D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D7BE-1A90-4550-81C0-B5D614A0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F3F6-FC62-4DB8-A54A-6C203E05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188C-B3CE-4423-8580-A6EC13F4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627D-CCF1-4588-A77C-113591B1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F391-4F5D-4BF9-B33F-CF9AC133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C113-5C6C-4BAB-8BB8-8A36772C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5B67-2022-4607-96D0-260B29433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551F-896A-4A4D-95A8-B885189D0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C3E8-C6E4-4EDC-853F-88E30EB5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11F8-5832-44C1-9136-FD23013F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0BD9-ADC2-44D2-BA56-EDA4BD4B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745D-B5D7-420F-90F4-D6CA08BF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32C0-46E4-4653-9E64-FC955235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87CA-FCE6-4E98-A75F-60891BB8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FAEF-D08F-47EE-A6DD-DDC54B6E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FFF3-D4C8-4BE6-B8C0-5E708D3D24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ACE4-7C46-46F0-92AD-18B1E612DC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image" Target="../media/image2.jpe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Алгоритм создания электронные образовательные ресурс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724000" y="5013000"/>
            <a:ext cx="27385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полнил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увьюрова Татья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616 групп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7.Юридический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егистрация и сертификация ЭУП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348000" y="3357720"/>
            <a:ext cx="3611520" cy="2403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971640" y="609300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10800"/>
                </a:moveTo>
                <a:lnTo>
                  <a:pt x="28596" y="3794"/>
                </a:lnTo>
                <a:lnTo>
                  <a:pt x="2859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8.Поддержка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ехническая и методическая поддерж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1116000" y="602136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Источники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раснянский М.Н., Радченко И.М.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ы педагогического дизайна и создания мультимедийных обучающих аудио/видео материалов. – Тамбов, 2006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ура В.В.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оретические основы педагогического проектирования личностно-ориентированных электронных образовательных ресурсов и сред. Ростов н/Д: Изд-во Южного федерального ун-та, 2007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Беляев М.И., Гриншкун В.В., Краснова Г.А.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хнология создания электронных средств обучения //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http://www.twirpx.com/file/354883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6021360"/>
            <a:ext cx="720720" cy="28728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149" h="21600">
                <a:moveTo>
                  <a:pt x="0" y="0"/>
                </a:moveTo>
                <a:lnTo>
                  <a:pt x="54149" y="0"/>
                </a:lnTo>
                <a:lnTo>
                  <a:pt x="54149" y="21600"/>
                </a:lnTo>
                <a:lnTo>
                  <a:pt x="0" y="21600"/>
                </a:lnTo>
                <a:close/>
              </a:path>
              <a:path fill="lightenLess" w="54149" h="21600">
                <a:moveTo>
                  <a:pt x="0" y="0"/>
                </a:moveTo>
                <a:lnTo>
                  <a:pt x="54149" y="0"/>
                </a:lnTo>
                <a:lnTo>
                  <a:pt x="52749" y="1400"/>
                </a:lnTo>
                <a:lnTo>
                  <a:pt x="1400" y="1400"/>
                </a:lnTo>
                <a:close/>
              </a:path>
              <a:path fill="darken" w="54149" h="21600">
                <a:moveTo>
                  <a:pt x="54149" y="0"/>
                </a:moveTo>
                <a:lnTo>
                  <a:pt x="54149" y="21600"/>
                </a:lnTo>
                <a:lnTo>
                  <a:pt x="52749" y="20200"/>
                </a:lnTo>
                <a:lnTo>
                  <a:pt x="52749" y="1400"/>
                </a:lnTo>
                <a:close/>
              </a:path>
              <a:path fill="darkenLess" w="54149" h="21600">
                <a:moveTo>
                  <a:pt x="54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49" y="20200"/>
                </a:lnTo>
                <a:close/>
              </a:path>
              <a:path fill="lighten" w="54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149" h="21600">
                <a:moveTo>
                  <a:pt x="20068" y="10800"/>
                </a:moveTo>
                <a:lnTo>
                  <a:pt x="34081" y="3794"/>
                </a:lnTo>
                <a:lnTo>
                  <a:pt x="34081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39280" y="549000"/>
            <a:ext cx="38228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68360" y="476280"/>
            <a:ext cx="8137080" cy="3465360"/>
            <a:chOff x="468360" y="476280"/>
            <a:chExt cx="8137080" cy="3465360"/>
          </a:xfrm>
        </p:grpSpPr>
        <p:cxnSp>
          <p:nvCxnSpPr>
            <p:cNvPr id="86" name="_s3111"/>
            <p:cNvCxnSpPr>
              <a:stCxn id="87" idx="0"/>
              <a:endCxn id="88" idx="2"/>
            </p:cNvCxnSpPr>
            <p:nvPr/>
          </p:nvCxnSpPr>
          <p:spPr>
            <a:xfrm flipV="1" rot="16200000">
              <a:off x="4125240" y="1995480"/>
              <a:ext cx="1756080" cy="130680"/>
            </a:xfrm>
            <a:prstGeom prst="bentConnector3">
              <a:avLst>
                <a:gd name="adj1" fmla="val 446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9" name="_s3109"/>
            <p:cNvCxnSpPr>
              <a:stCxn id="90" idx="0"/>
              <a:endCxn id="88" idx="2"/>
            </p:cNvCxnSpPr>
            <p:nvPr/>
          </p:nvCxnSpPr>
          <p:spPr>
            <a:xfrm flipV="1" rot="16200000">
              <a:off x="4641840" y="1479600"/>
              <a:ext cx="1756080" cy="1162440"/>
            </a:xfrm>
            <a:prstGeom prst="bentConnector3">
              <a:avLst>
                <a:gd name="adj1" fmla="val 446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1" name="_s3107"/>
            <p:cNvCxnSpPr>
              <a:stCxn id="92" idx="0"/>
              <a:endCxn id="88" idx="2"/>
            </p:cNvCxnSpPr>
            <p:nvPr/>
          </p:nvCxnSpPr>
          <p:spPr>
            <a:xfrm flipV="1" rot="16200000">
              <a:off x="5157000" y="963720"/>
              <a:ext cx="1756080" cy="2194200"/>
            </a:xfrm>
            <a:prstGeom prst="bentConnector3">
              <a:avLst>
                <a:gd name="adj1" fmla="val 446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3" name="_s3105"/>
            <p:cNvCxnSpPr>
              <a:stCxn id="94" idx="0"/>
              <a:endCxn id="88" idx="2"/>
            </p:cNvCxnSpPr>
            <p:nvPr/>
          </p:nvCxnSpPr>
          <p:spPr>
            <a:xfrm flipV="1" rot="16200000">
              <a:off x="5673240" y="447480"/>
              <a:ext cx="1756080" cy="3226680"/>
            </a:xfrm>
            <a:prstGeom prst="bentConnector3">
              <a:avLst>
                <a:gd name="adj1" fmla="val 446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5" name="_s3103"/>
            <p:cNvCxnSpPr>
              <a:stCxn id="96" idx="0"/>
              <a:endCxn id="88" idx="2"/>
            </p:cNvCxnSpPr>
            <p:nvPr/>
          </p:nvCxnSpPr>
          <p:spPr>
            <a:xfrm flipH="1" flipV="1" rot="5400000">
              <a:off x="3610080" y="1610640"/>
              <a:ext cx="1756080" cy="900720"/>
            </a:xfrm>
            <a:prstGeom prst="bentConnector3">
              <a:avLst>
                <a:gd name="adj1" fmla="val 446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7" name="_s3084"/>
            <p:cNvCxnSpPr>
              <a:stCxn id="98" idx="0"/>
              <a:endCxn id="88" idx="2"/>
            </p:cNvCxnSpPr>
            <p:nvPr/>
          </p:nvCxnSpPr>
          <p:spPr>
            <a:xfrm flipH="1" flipV="1" rot="5400000">
              <a:off x="3085560" y="1086120"/>
              <a:ext cx="1756080" cy="1949400"/>
            </a:xfrm>
            <a:prstGeom prst="bentConnector3">
              <a:avLst>
                <a:gd name="adj1" fmla="val 446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9" name="_s3083"/>
            <p:cNvCxnSpPr>
              <a:stCxn id="100" idx="0"/>
              <a:endCxn id="88" idx="2"/>
            </p:cNvCxnSpPr>
            <p:nvPr/>
          </p:nvCxnSpPr>
          <p:spPr>
            <a:xfrm flipH="1" flipV="1" rot="5400000">
              <a:off x="2561760" y="562320"/>
              <a:ext cx="1756080" cy="2997000"/>
            </a:xfrm>
            <a:prstGeom prst="bentConnector3">
              <a:avLst>
                <a:gd name="adj1" fmla="val 446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1" name="_s3082"/>
            <p:cNvCxnSpPr>
              <a:stCxn id="102" idx="0"/>
              <a:endCxn id="88" idx="2"/>
            </p:cNvCxnSpPr>
            <p:nvPr/>
          </p:nvCxnSpPr>
          <p:spPr>
            <a:xfrm flipH="1" flipV="1" rot="5400000">
              <a:off x="2046240" y="46800"/>
              <a:ext cx="1756080" cy="4028400"/>
            </a:xfrm>
            <a:prstGeom prst="bentConnector3">
              <a:avLst>
                <a:gd name="adj1" fmla="val 4469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8" name="_s3078"/>
            <p:cNvSpPr/>
            <p:nvPr/>
          </p:nvSpPr>
          <p:spPr>
            <a:xfrm>
              <a:off x="4066920" y="476280"/>
              <a:ext cx="1743120" cy="7070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5ffff"/>
                  </a:solidFill>
                  <a:latin typeface="Tahoma"/>
                </a:rPr>
                <a:t>Этапы: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_s3079"/>
            <p:cNvSpPr/>
            <p:nvPr/>
          </p:nvSpPr>
          <p:spPr>
            <a:xfrm>
              <a:off x="468360" y="2938680"/>
              <a:ext cx="884520" cy="917640"/>
            </a:xfrm>
            <a:custGeom>
              <a:avLst/>
              <a:gdLst>
                <a:gd name="textAreaLeft" fmla="*/ 42840 w 884520"/>
                <a:gd name="textAreaRight" fmla="*/ 841680 w 884520"/>
                <a:gd name="textAreaTop" fmla="*/ 42840 h 917640"/>
                <a:gd name="textAreaBottom" fmla="*/ 874800 h 917640"/>
              </a:gdLst>
              <a:ahLst/>
              <a:rect l="textAreaLeft" t="textAreaTop" r="textAreaRight" b="textAreaBottom"/>
              <a:pathLst>
                <a:path w="21600" h="22408">
                  <a:moveTo>
                    <a:pt x="3600" y="0"/>
                  </a:moveTo>
                  <a:arcTo wR="3600" hR="3600" stAng="16200000" swAng="-5400000"/>
                  <a:lnTo>
                    <a:pt x="0" y="18808"/>
                  </a:lnTo>
                  <a:arcTo wR="3600" hR="3600" stAng="10800000" swAng="-5400000"/>
                  <a:lnTo>
                    <a:pt x="18000" y="2240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ccff"/>
                  </a:solidFill>
                  <a:uFillTx/>
                  <a:latin typeface="Tahoma"/>
                  <a:hlinkClick r:id="rId2" action="ppaction://hlinksldjump"/>
                </a:rPr>
                <a:t>1.Предварительная работа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_s3080"/>
            <p:cNvSpPr/>
            <p:nvPr/>
          </p:nvSpPr>
          <p:spPr>
            <a:xfrm>
              <a:off x="1500480" y="2938680"/>
              <a:ext cx="881280" cy="986040"/>
            </a:xfrm>
            <a:custGeom>
              <a:avLst/>
              <a:gdLst>
                <a:gd name="textAreaLeft" fmla="*/ 42840 w 881280"/>
                <a:gd name="textAreaRight" fmla="*/ 838440 w 881280"/>
                <a:gd name="textAreaTop" fmla="*/ 42840 h 986040"/>
                <a:gd name="textAreaBottom" fmla="*/ 943200 h 986040"/>
              </a:gdLst>
              <a:ahLst/>
              <a:rect l="textAreaLeft" t="textAreaTop" r="textAreaRight" b="textAreaBottom"/>
              <a:pathLst>
                <a:path w="21600" h="24167">
                  <a:moveTo>
                    <a:pt x="3600" y="0"/>
                  </a:moveTo>
                  <a:arcTo wR="3600" hR="3600" stAng="16200000" swAng="-5400000"/>
                  <a:lnTo>
                    <a:pt x="0" y="20567"/>
                  </a:lnTo>
                  <a:arcTo wR="3600" hR="3600" stAng="10800000" swAng="-5400000"/>
                  <a:lnTo>
                    <a:pt x="18000" y="241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2.Сбор необходимой информации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_s3081"/>
            <p:cNvSpPr/>
            <p:nvPr/>
          </p:nvSpPr>
          <p:spPr>
            <a:xfrm>
              <a:off x="2529720" y="2938680"/>
              <a:ext cx="917640" cy="986040"/>
            </a:xfrm>
            <a:custGeom>
              <a:avLst/>
              <a:gdLst>
                <a:gd name="textAreaLeft" fmla="*/ 44640 w 917640"/>
                <a:gd name="textAreaRight" fmla="*/ 873000 w 917640"/>
                <a:gd name="textAreaTop" fmla="*/ 44640 h 986040"/>
                <a:gd name="textAreaBottom" fmla="*/ 941400 h 986040"/>
              </a:gdLst>
              <a:ahLst/>
              <a:rect l="textAreaLeft" t="textAreaTop" r="textAreaRight" b="textAreaBottom"/>
              <a:pathLst>
                <a:path w="21600" h="23209">
                  <a:moveTo>
                    <a:pt x="3600" y="0"/>
                  </a:moveTo>
                  <a:arcTo wR="3600" hR="3600" stAng="16200000" swAng="-5400000"/>
                  <a:lnTo>
                    <a:pt x="0" y="19609"/>
                  </a:lnTo>
                  <a:arcTo wR="3600" hR="3600" stAng="10800000" swAng="-5400000"/>
                  <a:lnTo>
                    <a:pt x="18000" y="232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ccff"/>
                  </a:solidFill>
                  <a:uFillTx/>
                  <a:latin typeface="Tahoma"/>
                  <a:hlinkClick r:id="rId4" action="ppaction://hlinksldjump"/>
                </a:rPr>
                <a:t>3.Подготовка содержания</a:t>
              </a:r>
              <a:r>
                <a:rPr b="0" lang="en-US" sz="1000" spc="-1" strike="noStrike" u="sng">
                  <a:solidFill>
                    <a:srgbClr val="ffffff"/>
                  </a:solidFill>
                  <a:uFillTx/>
                  <a:latin typeface="Tahoma"/>
                </a:rPr>
                <a:t>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_s3102"/>
            <p:cNvSpPr/>
            <p:nvPr/>
          </p:nvSpPr>
          <p:spPr>
            <a:xfrm>
              <a:off x="3594960" y="2938680"/>
              <a:ext cx="884520" cy="1002960"/>
            </a:xfrm>
            <a:custGeom>
              <a:avLst/>
              <a:gdLst>
                <a:gd name="textAreaLeft" fmla="*/ 42840 w 884520"/>
                <a:gd name="textAreaRight" fmla="*/ 841680 w 884520"/>
                <a:gd name="textAreaTop" fmla="*/ 42840 h 1002960"/>
                <a:gd name="textAreaBottom" fmla="*/ 960120 h 1002960"/>
              </a:gdLst>
              <a:ahLst/>
              <a:rect l="textAreaLeft" t="textAreaTop" r="textAreaRight" b="textAreaBottom"/>
              <a:pathLst>
                <a:path w="21600" h="24491">
                  <a:moveTo>
                    <a:pt x="3600" y="0"/>
                  </a:moveTo>
                  <a:arcTo wR="3600" hR="3600" stAng="16200000" swAng="-5400000"/>
                  <a:lnTo>
                    <a:pt x="0" y="20891"/>
                  </a:lnTo>
                  <a:arcTo wR="3600" hR="3600" stAng="10800000" swAng="-5400000"/>
                  <a:lnTo>
                    <a:pt x="18000" y="24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4.Дизайн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_s3104"/>
            <p:cNvSpPr/>
            <p:nvPr/>
          </p:nvSpPr>
          <p:spPr>
            <a:xfrm>
              <a:off x="7722000" y="2938680"/>
              <a:ext cx="883440" cy="1002960"/>
            </a:xfrm>
            <a:custGeom>
              <a:avLst/>
              <a:gdLst>
                <a:gd name="textAreaLeft" fmla="*/ 42840 w 883440"/>
                <a:gd name="textAreaRight" fmla="*/ 840600 w 883440"/>
                <a:gd name="textAreaTop" fmla="*/ 42840 h 1002960"/>
                <a:gd name="textAreaBottom" fmla="*/ 960120 h 1002960"/>
              </a:gdLst>
              <a:ahLst/>
              <a:rect l="textAreaLeft" t="textAreaTop" r="textAreaRight" b="textAreaBottom"/>
              <a:pathLst>
                <a:path w="21600" h="24521">
                  <a:moveTo>
                    <a:pt x="3600" y="0"/>
                  </a:moveTo>
                  <a:arcTo wR="3600" hR="3600" stAng="16200000" swAng="-5400000"/>
                  <a:lnTo>
                    <a:pt x="0" y="20921"/>
                  </a:lnTo>
                  <a:arcTo wR="3600" hR="3600" stAng="10800000" swAng="-5400000"/>
                  <a:lnTo>
                    <a:pt x="18000" y="245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8.Поддержка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_s3106"/>
            <p:cNvSpPr/>
            <p:nvPr/>
          </p:nvSpPr>
          <p:spPr>
            <a:xfrm>
              <a:off x="6689880" y="2938680"/>
              <a:ext cx="884520" cy="1002960"/>
            </a:xfrm>
            <a:custGeom>
              <a:avLst/>
              <a:gdLst>
                <a:gd name="textAreaLeft" fmla="*/ 42840 w 884520"/>
                <a:gd name="textAreaRight" fmla="*/ 841680 w 884520"/>
                <a:gd name="textAreaTop" fmla="*/ 42840 h 1002960"/>
                <a:gd name="textAreaBottom" fmla="*/ 960120 h 1002960"/>
              </a:gdLst>
              <a:ahLst/>
              <a:rect l="textAreaLeft" t="textAreaTop" r="textAreaRight" b="textAreaBottom"/>
              <a:pathLst>
                <a:path w="21600" h="24491">
                  <a:moveTo>
                    <a:pt x="3600" y="0"/>
                  </a:moveTo>
                  <a:arcTo wR="3600" hR="3600" stAng="16200000" swAng="-5400000"/>
                  <a:lnTo>
                    <a:pt x="0" y="20891"/>
                  </a:lnTo>
                  <a:arcTo wR="3600" hR="3600" stAng="10800000" swAng="-5400000"/>
                  <a:lnTo>
                    <a:pt x="18000" y="24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7.Юридический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_s3108"/>
            <p:cNvSpPr/>
            <p:nvPr/>
          </p:nvSpPr>
          <p:spPr>
            <a:xfrm>
              <a:off x="5658480" y="2938680"/>
              <a:ext cx="883800" cy="1002960"/>
            </a:xfrm>
            <a:custGeom>
              <a:avLst/>
              <a:gdLst>
                <a:gd name="textAreaLeft" fmla="*/ 42840 w 883800"/>
                <a:gd name="textAreaRight" fmla="*/ 840960 w 883800"/>
                <a:gd name="textAreaTop" fmla="*/ 42840 h 1002960"/>
                <a:gd name="textAreaBottom" fmla="*/ 960120 h 1002960"/>
              </a:gdLst>
              <a:ahLst/>
              <a:rect l="textAreaLeft" t="textAreaTop" r="textAreaRight" b="textAreaBottom"/>
              <a:pathLst>
                <a:path w="21600" h="24511">
                  <a:moveTo>
                    <a:pt x="3600" y="0"/>
                  </a:moveTo>
                  <a:arcTo wR="3600" hR="3600" stAng="16200000" swAng="-5400000"/>
                  <a:lnTo>
                    <a:pt x="0" y="20911"/>
                  </a:lnTo>
                  <a:arcTo wR="3600" hR="3600" stAng="10800000" swAng="-5400000"/>
                  <a:lnTo>
                    <a:pt x="18000" y="245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6.Тестирование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_s3110"/>
            <p:cNvSpPr/>
            <p:nvPr/>
          </p:nvSpPr>
          <p:spPr>
            <a:xfrm>
              <a:off x="4627080" y="2938680"/>
              <a:ext cx="883440" cy="1002960"/>
            </a:xfrm>
            <a:custGeom>
              <a:avLst/>
              <a:gdLst>
                <a:gd name="textAreaLeft" fmla="*/ 42840 w 883440"/>
                <a:gd name="textAreaRight" fmla="*/ 840600 w 883440"/>
                <a:gd name="textAreaTop" fmla="*/ 42840 h 1002960"/>
                <a:gd name="textAreaBottom" fmla="*/ 960120 h 1002960"/>
              </a:gdLst>
              <a:ahLst/>
              <a:rect l="textAreaLeft" t="textAreaTop" r="textAreaRight" b="textAreaBottom"/>
              <a:pathLst>
                <a:path w="21600" h="24521">
                  <a:moveTo>
                    <a:pt x="3600" y="0"/>
                  </a:moveTo>
                  <a:arcTo wR="3600" hR="3600" stAng="16200000" swAng="-5400000"/>
                  <a:lnTo>
                    <a:pt x="0" y="20921"/>
                  </a:lnTo>
                  <a:arcTo wR="3600" hR="3600" stAng="10800000" swAng="-5400000"/>
                  <a:lnTo>
                    <a:pt x="18000" y="245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ccff"/>
                  </a:solidFill>
                  <a:uFillTx/>
                  <a:latin typeface="Tahoma"/>
                  <a:hlinkClick r:id="rId6" action="ppaction://hlinksldjump"/>
                </a:rPr>
                <a:t>5.Производство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971640" y="549360"/>
            <a:ext cx="1942920" cy="1942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8"/>
          <a:stretch/>
        </p:blipFill>
        <p:spPr>
          <a:xfrm>
            <a:off x="4140360" y="4724280"/>
            <a:ext cx="1152360" cy="1152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987640" y="595008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сточн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1.Предварительная работа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Формулировка исходной идей. Оформление документации на ЭУП. Оценка существующих элементов. Составление перечня необходимых и наличествующих специалист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940360" y="4076640"/>
            <a:ext cx="2759040" cy="1839960"/>
          </a:xfrm>
          <a:prstGeom prst="rect">
            <a:avLst/>
          </a:prstGeom>
          <a:ln w="0">
            <a:noFill/>
          </a:ln>
        </p:spPr>
      </p:pic>
      <p:sp>
        <p:nvSpPr>
          <p:cNvPr id="109" name="">
            <a:hlinkClick r:id="rId3" action="ppaction://hlinksldjump"/>
          </p:cNvPr>
          <p:cNvSpPr/>
          <p:nvPr/>
        </p:nvSpPr>
        <p:spPr>
          <a:xfrm>
            <a:off x="826920" y="587700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54" h="21600">
                <a:moveTo>
                  <a:pt x="11021" y="10800"/>
                </a:moveTo>
                <a:lnTo>
                  <a:pt x="25033" y="3794"/>
                </a:lnTo>
                <a:lnTo>
                  <a:pt x="25033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2.Сбор необходимой информации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нализ потребностей. Выделение главной дидактической цели. Обоснование необходимости и того нового, что внесет продук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435640" y="4149720"/>
            <a:ext cx="3154320" cy="2082960"/>
          </a:xfrm>
          <a:prstGeom prst="rect">
            <a:avLst/>
          </a:prstGeom>
          <a:ln w="0">
            <a:noFill/>
          </a:ln>
        </p:spPr>
      </p:pic>
      <p:sp>
        <p:nvSpPr>
          <p:cNvPr id="113" name="">
            <a:hlinkClick r:id="rId3" action="ppaction://hlinksldjump"/>
          </p:cNvPr>
          <p:cNvSpPr/>
          <p:nvPr/>
        </p:nvSpPr>
        <p:spPr>
          <a:xfrm>
            <a:off x="1042920" y="6093000"/>
            <a:ext cx="719280" cy="215640"/>
          </a:xfrm>
          <a:custGeom>
            <a:avLst/>
            <a:gdLst>
              <a:gd name="textAreaLeft" fmla="*/ 13680 w 719280"/>
              <a:gd name="textAreaRight" fmla="*/ 705600 w 71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71964" h="21600">
                <a:moveTo>
                  <a:pt x="0" y="0"/>
                </a:moveTo>
                <a:lnTo>
                  <a:pt x="71964" y="0"/>
                </a:lnTo>
                <a:lnTo>
                  <a:pt x="71964" y="21600"/>
                </a:lnTo>
                <a:lnTo>
                  <a:pt x="0" y="21600"/>
                </a:lnTo>
                <a:close/>
              </a:path>
              <a:path fill="lightenLess" w="71964" h="21600">
                <a:moveTo>
                  <a:pt x="0" y="0"/>
                </a:moveTo>
                <a:lnTo>
                  <a:pt x="71964" y="0"/>
                </a:lnTo>
                <a:lnTo>
                  <a:pt x="70564" y="1400"/>
                </a:lnTo>
                <a:lnTo>
                  <a:pt x="1400" y="1400"/>
                </a:lnTo>
                <a:close/>
              </a:path>
              <a:path fill="darken" w="71964" h="21600">
                <a:moveTo>
                  <a:pt x="71964" y="0"/>
                </a:moveTo>
                <a:lnTo>
                  <a:pt x="71964" y="21600"/>
                </a:lnTo>
                <a:lnTo>
                  <a:pt x="70564" y="20200"/>
                </a:lnTo>
                <a:lnTo>
                  <a:pt x="70564" y="1400"/>
                </a:lnTo>
                <a:close/>
              </a:path>
              <a:path fill="darkenLess" w="71964" h="21600">
                <a:moveTo>
                  <a:pt x="71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64" y="20200"/>
                </a:lnTo>
                <a:close/>
              </a:path>
              <a:path fill="lighten" w="71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1964" h="21600">
                <a:moveTo>
                  <a:pt x="28976" y="10800"/>
                </a:moveTo>
                <a:lnTo>
                  <a:pt x="42988" y="3794"/>
                </a:lnTo>
                <a:lnTo>
                  <a:pt x="42988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3.Подготовка содержания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деление дидактических подцелей. Составление плана. Представление содержания в форме модуле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19640" y="3645000"/>
            <a:ext cx="1812600" cy="2725560"/>
          </a:xfrm>
          <a:prstGeom prst="rect">
            <a:avLst/>
          </a:prstGeom>
          <a:ln w="0">
            <a:noFill/>
          </a:ln>
        </p:spPr>
      </p:pic>
      <p:sp>
        <p:nvSpPr>
          <p:cNvPr id="117" name="">
            <a:hlinkClick r:id="rId3" action="ppaction://hlinksldjump"/>
          </p:cNvPr>
          <p:cNvSpPr/>
          <p:nvPr/>
        </p:nvSpPr>
        <p:spPr>
          <a:xfrm>
            <a:off x="900000" y="623736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256" h="21600">
                <a:moveTo>
                  <a:pt x="36122" y="10800"/>
                </a:moveTo>
                <a:lnTo>
                  <a:pt x="50135" y="3794"/>
                </a:lnTo>
                <a:lnTo>
                  <a:pt x="50135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4.Дизайн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работка концепции. Выбор медиа (звук, изображения, видео). Написание сценария. Детальный дизайн + подключение интерактивн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780000" y="4292640"/>
            <a:ext cx="2106360" cy="1682640"/>
          </a:xfrm>
          <a:prstGeom prst="rect">
            <a:avLst/>
          </a:prstGeom>
          <a:ln w="0">
            <a:noFill/>
          </a:ln>
        </p:spPr>
      </p:pic>
      <p:sp>
        <p:nvSpPr>
          <p:cNvPr id="121" name="">
            <a:hlinkClick r:id="rId3" action="ppaction://hlinksldjump"/>
          </p:cNvPr>
          <p:cNvSpPr/>
          <p:nvPr/>
        </p:nvSpPr>
        <p:spPr>
          <a:xfrm>
            <a:off x="1042920" y="6165720"/>
            <a:ext cx="865080" cy="287640"/>
          </a:xfrm>
          <a:custGeom>
            <a:avLst/>
            <a:gdLst>
              <a:gd name="textAreaLeft" fmla="*/ 18360 w 865080"/>
              <a:gd name="textAreaRight" fmla="*/ 846720 w 86508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64908" h="21600">
                <a:moveTo>
                  <a:pt x="0" y="0"/>
                </a:moveTo>
                <a:lnTo>
                  <a:pt x="64908" y="0"/>
                </a:lnTo>
                <a:lnTo>
                  <a:pt x="64908" y="21600"/>
                </a:lnTo>
                <a:lnTo>
                  <a:pt x="0" y="21600"/>
                </a:lnTo>
                <a:close/>
              </a:path>
              <a:path fill="lightenLess" w="64908" h="21600">
                <a:moveTo>
                  <a:pt x="0" y="0"/>
                </a:moveTo>
                <a:lnTo>
                  <a:pt x="64908" y="0"/>
                </a:lnTo>
                <a:lnTo>
                  <a:pt x="63508" y="1400"/>
                </a:lnTo>
                <a:lnTo>
                  <a:pt x="1400" y="1400"/>
                </a:lnTo>
                <a:close/>
              </a:path>
              <a:path fill="darken" w="64908" h="21600">
                <a:moveTo>
                  <a:pt x="64908" y="0"/>
                </a:moveTo>
                <a:lnTo>
                  <a:pt x="64908" y="21600"/>
                </a:lnTo>
                <a:lnTo>
                  <a:pt x="63508" y="20200"/>
                </a:lnTo>
                <a:lnTo>
                  <a:pt x="63508" y="1400"/>
                </a:lnTo>
                <a:close/>
              </a:path>
              <a:path fill="darkenLess" w="64908" h="21600">
                <a:moveTo>
                  <a:pt x="64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508" y="20200"/>
                </a:lnTo>
                <a:close/>
              </a:path>
              <a:path fill="lighten" w="64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908" h="21600">
                <a:moveTo>
                  <a:pt x="25448" y="10800"/>
                </a:moveTo>
                <a:lnTo>
                  <a:pt x="39460" y="3794"/>
                </a:lnTo>
                <a:lnTo>
                  <a:pt x="39460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Мультимеди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ехнологии мультимедиа позволяют осмысленно и гармонично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интегрировать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многие виды информаци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826920" y="2922480"/>
            <a:ext cx="589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Зву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Компьютерная граф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идео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5.Производство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граммирование и оцифровка содержания. Создание изображений, звука и т.п. Компоновка готовых материалов в модули. Наладка навигации по продукт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492360" y="458136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28" name="">
            <a:hlinkClick r:id="rId3" action="ppaction://hlinksldjump"/>
          </p:cNvPr>
          <p:cNvSpPr/>
          <p:nvPr/>
        </p:nvSpPr>
        <p:spPr>
          <a:xfrm>
            <a:off x="971640" y="6165720"/>
            <a:ext cx="720720" cy="35892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43352" h="21600">
                <a:moveTo>
                  <a:pt x="0" y="0"/>
                </a:moveTo>
                <a:lnTo>
                  <a:pt x="43352" y="0"/>
                </a:lnTo>
                <a:lnTo>
                  <a:pt x="43352" y="21600"/>
                </a:lnTo>
                <a:lnTo>
                  <a:pt x="0" y="21600"/>
                </a:lnTo>
                <a:close/>
              </a:path>
              <a:path fill="lightenLess" w="43352" h="21600">
                <a:moveTo>
                  <a:pt x="0" y="0"/>
                </a:moveTo>
                <a:lnTo>
                  <a:pt x="43352" y="0"/>
                </a:lnTo>
                <a:lnTo>
                  <a:pt x="41952" y="1400"/>
                </a:lnTo>
                <a:lnTo>
                  <a:pt x="1400" y="1400"/>
                </a:lnTo>
                <a:close/>
              </a:path>
              <a:path fill="darken" w="43352" h="21600">
                <a:moveTo>
                  <a:pt x="43352" y="0"/>
                </a:moveTo>
                <a:lnTo>
                  <a:pt x="43352" y="21600"/>
                </a:lnTo>
                <a:lnTo>
                  <a:pt x="41952" y="20200"/>
                </a:lnTo>
                <a:lnTo>
                  <a:pt x="41952" y="1400"/>
                </a:lnTo>
                <a:close/>
              </a:path>
              <a:path fill="darkenLess" w="43352" h="21600">
                <a:moveTo>
                  <a:pt x="43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52" y="20200"/>
                </a:lnTo>
                <a:close/>
              </a:path>
              <a:path fill="lighten" w="43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52" h="21600">
                <a:moveTo>
                  <a:pt x="14669" y="10800"/>
                </a:moveTo>
                <a:lnTo>
                  <a:pt x="28682" y="3794"/>
                </a:lnTo>
                <a:lnTo>
                  <a:pt x="28682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6.Тестирование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естирование и оценка продук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203640" y="2924280"/>
            <a:ext cx="2347920" cy="2019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84360" y="6021360"/>
            <a:ext cx="1008000" cy="43200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0376" h="21600">
                <a:moveTo>
                  <a:pt x="0" y="0"/>
                </a:moveTo>
                <a:lnTo>
                  <a:pt x="50376" y="0"/>
                </a:lnTo>
                <a:lnTo>
                  <a:pt x="50376" y="21600"/>
                </a:lnTo>
                <a:lnTo>
                  <a:pt x="0" y="21600"/>
                </a:lnTo>
                <a:close/>
              </a:path>
              <a:path fill="lightenLess" w="50376" h="21600">
                <a:moveTo>
                  <a:pt x="0" y="0"/>
                </a:moveTo>
                <a:lnTo>
                  <a:pt x="50376" y="0"/>
                </a:lnTo>
                <a:lnTo>
                  <a:pt x="48976" y="1400"/>
                </a:lnTo>
                <a:lnTo>
                  <a:pt x="1400" y="1400"/>
                </a:lnTo>
                <a:close/>
              </a:path>
              <a:path fill="darken" w="50376" h="21600">
                <a:moveTo>
                  <a:pt x="50376" y="0"/>
                </a:moveTo>
                <a:lnTo>
                  <a:pt x="50376" y="21600"/>
                </a:lnTo>
                <a:lnTo>
                  <a:pt x="48976" y="20200"/>
                </a:lnTo>
                <a:lnTo>
                  <a:pt x="48976" y="1400"/>
                </a:lnTo>
                <a:close/>
              </a:path>
              <a:path fill="darkenLess" w="50376" h="21600">
                <a:moveTo>
                  <a:pt x="50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6" y="20200"/>
                </a:lnTo>
                <a:close/>
              </a:path>
              <a:path fill="lighten" w="50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76" h="21600">
                <a:moveTo>
                  <a:pt x="18182" y="10800"/>
                </a:moveTo>
                <a:lnTo>
                  <a:pt x="32194" y="3794"/>
                </a:lnTo>
                <a:lnTo>
                  <a:pt x="32194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08:36:39Z</dcterms:created>
  <dc:creator>студент</dc:creator>
  <dc:description/>
  <dc:language>en-US</dc:language>
  <cp:lastModifiedBy>студент</cp:lastModifiedBy>
  <dcterms:modified xsi:type="dcterms:W3CDTF">2012-04-03T09:33:54Z</dcterms:modified>
  <cp:revision>2</cp:revision>
  <dc:subject/>
  <dc:title>Алгоритм создания электронные образовательные ресурсы</dc:title>
</cp:coreProperties>
</file>